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7320" y="362052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95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936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1140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732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936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1140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33400" y="75960"/>
            <a:ext cx="7677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95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7320" y="362052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95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2936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11400" y="91404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732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2936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11400" y="3620520"/>
            <a:ext cx="3030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33400" y="75960"/>
            <a:ext cx="7677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9520" y="362052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9520" y="914040"/>
            <a:ext cx="4592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7320" y="3620520"/>
            <a:ext cx="9410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838080"/>
            <a:ext cx="9906120" cy="0"/>
          </a:xfrm>
          <a:prstGeom prst="line">
            <a:avLst/>
          </a:prstGeom>
          <a:ln w="38160">
            <a:solidFill>
              <a:srgbClr val="c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"/>
          <p:cNvSpPr/>
          <p:nvPr/>
        </p:nvSpPr>
        <p:spPr>
          <a:xfrm>
            <a:off x="7119000" y="6087960"/>
            <a:ext cx="24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 Internal Data - Strictly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9906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6520" y="6354720"/>
            <a:ext cx="1419120" cy="436680"/>
          </a:xfrm>
          <a:prstGeom prst="rect">
            <a:avLst/>
          </a:prstGeom>
          <a:ln w="0">
            <a:noFill/>
          </a:ln>
        </p:spPr>
      </p:pic>
      <p:pic>
        <p:nvPicPr>
          <p:cNvPr id="6" name="band" descr=""/>
          <p:cNvPicPr/>
          <p:nvPr/>
        </p:nvPicPr>
        <p:blipFill>
          <a:blip r:embed="rId3"/>
          <a:stretch/>
        </p:blipFill>
        <p:spPr>
          <a:xfrm>
            <a:off x="0" y="6337440"/>
            <a:ext cx="9988560" cy="5205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2084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85720" y="1600200"/>
            <a:ext cx="7677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-360" y="6324480"/>
            <a:ext cx="9906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156520" y="6354720"/>
            <a:ext cx="1419120" cy="436680"/>
          </a:xfrm>
          <a:prstGeom prst="rect">
            <a:avLst/>
          </a:prstGeom>
          <a:ln w="0">
            <a:noFill/>
          </a:ln>
        </p:spPr>
      </p:pic>
      <p:pic>
        <p:nvPicPr>
          <p:cNvPr id="47" name="band" descr=""/>
          <p:cNvPicPr/>
          <p:nvPr/>
        </p:nvPicPr>
        <p:blipFill>
          <a:blip r:embed="rId3"/>
          <a:stretch/>
        </p:blipFill>
        <p:spPr>
          <a:xfrm>
            <a:off x="0" y="6337440"/>
            <a:ext cx="9988560" cy="520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32084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119000" y="6087960"/>
            <a:ext cx="24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 Internal Data - Strictly 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stacksize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69800" y="914040"/>
            <a:ext cx="8288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hat is it all about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t a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l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What can I do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Intern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DU  GPF  Berl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ank Regl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stacksize  Internals 2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7680" y="914040"/>
            <a:ext cx="5022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on det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Which functions are recursive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ion is detected for q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r and s are recursive, to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l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path of recursive descent (BEING_PROCESSED) to detect recu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recursive functions for later processing (PROR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agate PROREC mark back on return from the descent and replace it by RECUR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89680" y="914400"/>
            <a:ext cx="4981680" cy="511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oid analyze( NODE * node )  -- extract 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cdata = node-&gt;dat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( procdata-&gt;flags &amp; BEING_PROCESSE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cdata-&gt;flags &amp;= ~BEING_PROCESS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cdata-&gt;flags |= PROREC | ANALYZ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cdata-&gt;flags |= BEING_PROCESS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( i = 0; i &lt; procdata-&gt;ncalls; i++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alyze( procdata-&gt;call[i]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bprocdata = procdata-&gt;call[i]-&gt;dat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( subprocdata-&gt;flags &amp; PROREC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bprocdata-&gt;flags &amp;= ~PRORE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bprocdata-&gt;flags |= RECURSIV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( !(procdata-&gt;flags &amp; RECURSIVE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cdata-&gt;flags |= PROREC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cdata-&gt;flags &amp;= ~BEING_PROCESS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stacksize:</a:t>
            </a:r>
            <a:r>
              <a:rPr b="1" lang="en-GB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What is it all about?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6680" y="914040"/>
            <a:ext cx="9401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ck size too bi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waste of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ck size too smal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cr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cksiz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imple call graph analy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Who calls whom 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calculates stack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maximum for all call pa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det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entry functions (“start nodes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extern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recursiv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stacksize: Call Graph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274680" y="1078920"/>
            <a:ext cx="1406520" cy="502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aaa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ccc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fff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bbb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ddd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ccc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ee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fff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dd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ccc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eee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eee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184560" y="1141560"/>
            <a:ext cx="2554200" cy="3433680"/>
            <a:chOff x="3184560" y="1141560"/>
            <a:chExt cx="2554200" cy="3433680"/>
          </a:xfrm>
        </p:grpSpPr>
        <p:grpSp>
          <p:nvGrpSpPr>
            <p:cNvPr id="93" name=""/>
            <p:cNvGrpSpPr/>
            <p:nvPr/>
          </p:nvGrpSpPr>
          <p:grpSpPr>
            <a:xfrm>
              <a:off x="3184560" y="1141560"/>
              <a:ext cx="691920" cy="712800"/>
              <a:chOff x="3184560" y="1141560"/>
              <a:chExt cx="691920" cy="712800"/>
            </a:xfrm>
          </p:grpSpPr>
          <p:sp>
            <p:nvSpPr>
              <p:cNvPr id="94" name=""/>
              <p:cNvSpPr/>
              <p:nvPr/>
            </p:nvSpPr>
            <p:spPr>
              <a:xfrm>
                <a:off x="3184560" y="1141560"/>
                <a:ext cx="691920" cy="712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238560" y="1241280"/>
                <a:ext cx="588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aa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3195720" y="2508120"/>
              <a:ext cx="691920" cy="712800"/>
              <a:chOff x="3195720" y="2508120"/>
              <a:chExt cx="691920" cy="712800"/>
            </a:xfrm>
          </p:grpSpPr>
          <p:sp>
            <p:nvSpPr>
              <p:cNvPr id="97" name=""/>
              <p:cNvSpPr/>
              <p:nvPr/>
            </p:nvSpPr>
            <p:spPr>
              <a:xfrm>
                <a:off x="3195720" y="2508120"/>
                <a:ext cx="691920" cy="712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249720" y="2607840"/>
                <a:ext cx="588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cc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035680" y="1141560"/>
              <a:ext cx="691920" cy="712800"/>
              <a:chOff x="5035680" y="1141560"/>
              <a:chExt cx="691920" cy="712800"/>
            </a:xfrm>
          </p:grpSpPr>
          <p:sp>
            <p:nvSpPr>
              <p:cNvPr id="100" name=""/>
              <p:cNvSpPr/>
              <p:nvPr/>
            </p:nvSpPr>
            <p:spPr>
              <a:xfrm>
                <a:off x="5035680" y="1141560"/>
                <a:ext cx="691920" cy="712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89680" y="1241280"/>
                <a:ext cx="588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bb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5046840" y="2508120"/>
              <a:ext cx="691920" cy="712800"/>
              <a:chOff x="5046840" y="2508120"/>
              <a:chExt cx="691920" cy="712800"/>
            </a:xfrm>
          </p:grpSpPr>
          <p:sp>
            <p:nvSpPr>
              <p:cNvPr id="103" name=""/>
              <p:cNvSpPr/>
              <p:nvPr/>
            </p:nvSpPr>
            <p:spPr>
              <a:xfrm>
                <a:off x="5046840" y="2508120"/>
                <a:ext cx="691920" cy="712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00840" y="2607840"/>
                <a:ext cx="588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d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114800" y="3862440"/>
              <a:ext cx="691920" cy="712800"/>
              <a:chOff x="4114800" y="3862440"/>
              <a:chExt cx="691920" cy="712800"/>
            </a:xfrm>
          </p:grpSpPr>
          <p:sp>
            <p:nvSpPr>
              <p:cNvPr id="106" name=""/>
              <p:cNvSpPr/>
              <p:nvPr/>
            </p:nvSpPr>
            <p:spPr>
              <a:xfrm>
                <a:off x="4114800" y="3862440"/>
                <a:ext cx="691920" cy="712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168800" y="3962160"/>
                <a:ext cx="588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Times New Roman"/>
                  </a:rPr>
                  <a:t>ee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1884240" y="1735200"/>
            <a:ext cx="3506760" cy="4040280"/>
            <a:chOff x="1884240" y="1735200"/>
            <a:chExt cx="3506760" cy="4040280"/>
          </a:xfrm>
        </p:grpSpPr>
        <p:sp>
          <p:nvSpPr>
            <p:cNvPr id="109" name=""/>
            <p:cNvSpPr/>
            <p:nvPr/>
          </p:nvSpPr>
          <p:spPr>
            <a:xfrm>
              <a:off x="1884240" y="5318280"/>
              <a:ext cx="58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ff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43480" y="1862280"/>
              <a:ext cx="1440" cy="64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46520" y="3132000"/>
              <a:ext cx="527040" cy="82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369880" y="3165480"/>
              <a:ext cx="1006200" cy="20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657320" y="3141720"/>
              <a:ext cx="53820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873600" y="2846520"/>
              <a:ext cx="116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188800" y="1735200"/>
              <a:ext cx="1081080" cy="347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89560" y="1876320"/>
              <a:ext cx="1440" cy="64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308360" y="1377000"/>
            <a:ext cx="1409040" cy="4369320"/>
            <a:chOff x="7308360" y="1377000"/>
            <a:chExt cx="1409040" cy="4369320"/>
          </a:xfrm>
        </p:grpSpPr>
        <p:sp>
          <p:nvSpPr>
            <p:cNvPr id="118" name=""/>
            <p:cNvSpPr/>
            <p:nvPr/>
          </p:nvSpPr>
          <p:spPr>
            <a:xfrm>
              <a:off x="7338960" y="1377000"/>
              <a:ext cx="137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start no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18440" y="4097880"/>
              <a:ext cx="116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end n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08360" y="534744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60880" y="56728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bbb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99080" y="1619280"/>
            <a:ext cx="1636560" cy="2894040"/>
          </a:xfrm>
          <a:custGeom>
            <a:avLst/>
            <a:gdLst/>
            <a:ahLst/>
            <a:rect l="l" t="t" r="r" b="b"/>
            <a:pathLst>
              <a:path w="1031" h="1823">
                <a:moveTo>
                  <a:pt x="0" y="1800"/>
                </a:moveTo>
                <a:cubicBezTo>
                  <a:pt x="351" y="1811"/>
                  <a:pt x="703" y="1823"/>
                  <a:pt x="867" y="1593"/>
                </a:cubicBezTo>
                <a:cubicBezTo>
                  <a:pt x="1031" y="1363"/>
                  <a:pt x="1026" y="685"/>
                  <a:pt x="987" y="420"/>
                </a:cubicBezTo>
                <a:cubicBezTo>
                  <a:pt x="948" y="155"/>
                  <a:pt x="790" y="77"/>
                  <a:pt x="63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5480" y="329472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97840" y="4043520"/>
            <a:ext cx="15192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stacksize at a glance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16280" y="1046520"/>
            <a:ext cx="5743440" cy="471240"/>
            <a:chOff x="1916280" y="1046520"/>
            <a:chExt cx="5743440" cy="471240"/>
          </a:xfrm>
        </p:grpSpPr>
        <p:sp>
          <p:nvSpPr>
            <p:cNvPr id="127" name=""/>
            <p:cNvSpPr/>
            <p:nvPr/>
          </p:nvSpPr>
          <p:spPr>
            <a:xfrm>
              <a:off x="3200400" y="1047600"/>
              <a:ext cx="839880" cy="47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16280" y="1047600"/>
              <a:ext cx="839520" cy="47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95960" y="1047600"/>
              <a:ext cx="839520" cy="47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19840" y="1047600"/>
              <a:ext cx="839880" cy="47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05560" y="10465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95200" y="1512720"/>
            <a:ext cx="7364520" cy="1132200"/>
            <a:chOff x="295200" y="1512720"/>
            <a:chExt cx="7364520" cy="1132200"/>
          </a:xfrm>
        </p:grpSpPr>
        <p:sp>
          <p:nvSpPr>
            <p:cNvPr id="133" name=""/>
            <p:cNvSpPr/>
            <p:nvPr/>
          </p:nvSpPr>
          <p:spPr>
            <a:xfrm>
              <a:off x="1916280" y="2174760"/>
              <a:ext cx="839520" cy="47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00400" y="2174760"/>
              <a:ext cx="839880" cy="47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95960" y="2174760"/>
              <a:ext cx="839520" cy="47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19840" y="2174760"/>
              <a:ext cx="839880" cy="47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28840" y="1512720"/>
              <a:ext cx="0" cy="6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75600" y="151596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24360" y="152100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33840" y="1525680"/>
              <a:ext cx="0" cy="66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05560" y="21736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5200" y="1610280"/>
              <a:ext cx="138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C compi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93400" y="2646360"/>
            <a:ext cx="6956640" cy="1230480"/>
            <a:chOff x="293400" y="2646360"/>
            <a:chExt cx="6956640" cy="1230480"/>
          </a:xfrm>
        </p:grpSpPr>
        <p:sp>
          <p:nvSpPr>
            <p:cNvPr id="144" name=""/>
            <p:cNvSpPr/>
            <p:nvPr/>
          </p:nvSpPr>
          <p:spPr>
            <a:xfrm>
              <a:off x="2317680" y="2655720"/>
              <a:ext cx="1868400" cy="7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39960" y="2655720"/>
              <a:ext cx="71928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33760" y="2646360"/>
              <a:ext cx="403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546440" y="2646360"/>
              <a:ext cx="2703600" cy="74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75120" y="3406680"/>
              <a:ext cx="838080" cy="470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3400" y="278496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Awk 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71080" y="3884760"/>
            <a:ext cx="4842720" cy="1825200"/>
            <a:chOff x="271080" y="3884760"/>
            <a:chExt cx="4842720" cy="1825200"/>
          </a:xfrm>
        </p:grpSpPr>
        <p:sp>
          <p:nvSpPr>
            <p:cNvPr id="151" name=""/>
            <p:cNvSpPr/>
            <p:nvPr/>
          </p:nvSpPr>
          <p:spPr>
            <a:xfrm>
              <a:off x="3781080" y="4701240"/>
              <a:ext cx="133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Outpu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stack siz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other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1080" y="412812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Times New Roman"/>
                </a:rPr>
                <a:t>stacksiz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05320" y="3884760"/>
              <a:ext cx="0" cy="80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815000" y="2984400"/>
            <a:ext cx="4481280" cy="2993760"/>
            <a:chOff x="4815000" y="2984400"/>
            <a:chExt cx="4481280" cy="2993760"/>
          </a:xfrm>
        </p:grpSpPr>
        <p:sp>
          <p:nvSpPr>
            <p:cNvPr id="155" name=""/>
            <p:cNvSpPr/>
            <p:nvPr/>
          </p:nvSpPr>
          <p:spPr>
            <a:xfrm>
              <a:off x="6829560" y="2990880"/>
              <a:ext cx="2466720" cy="2987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proc arb_discard_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call vsi_o_func_ttr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call vsi_m_fr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end arb_discard_packet 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proc arb_get_protocol_re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call vsi_o_func_ttr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call vsi_m_ne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call vsi_m_fre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end arb_get_protocol_reject 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proc arb_get_pco_li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call vsi_o_func_ttr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call lcp_fill_out_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call lcp_get_valu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call pap_fill_out_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call chap_fill_out_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call ncp_fill_out_pack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urier New"/>
                </a:rPr>
                <a:t>end arb_get_pco_list 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815000" y="2984400"/>
              <a:ext cx="2011320" cy="424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26160" y="3873600"/>
              <a:ext cx="2000160" cy="2095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acksize: How to use ?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Build the .pa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1 Generate .asm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 \g23m\condat\condat_lib_ip.mak 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T:=    -me -mt -o -pw2 -x  -mw         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PT: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-me -mt -o -pw2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x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-m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ea.as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mbly output                                              No inline functions          File exten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d \g23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e  g23.inf  as usu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l g23.p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will get link errors (because no .obj files generated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.asm files are in the source directori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 Generate .pa f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d condat\ms\src\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abc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awk -f \gpf\bin\cg_na7.awk *.asm &gt;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abcd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p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naly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cksize [Options]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abcd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p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698920" y="2433600"/>
            <a:ext cx="36972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586480" y="2488680"/>
            <a:ext cx="6336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899400" y="2476080"/>
            <a:ext cx="210960" cy="3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stacksize: What can I do ?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Information provided by stacksize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xamples !  </a:t>
            </a:r>
            <a:r>
              <a:rPr b="0" i="1" sz="2000" spc="-1" strike="noStrike">
                <a:solidFill>
                  <a:srgbClr val="000000"/>
                </a:solidFill>
                <a:latin typeface="Arial"/>
              </a:rPr>
              <a:t>options can be comb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tack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maximum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acksize [-m] abcde.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acksize [-m] -f aaa abcde.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acksize -a abcde.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tart node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acksize -s abcde.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nd notes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acksize -e abcde.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external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acksize -x abcde.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ecursive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acksize -r abcde.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acksize -g [-x] [-l] abcde.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max stack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acksize -p abcde.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acksize -{g|p} -f aaa abcde.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recursion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stacksize -g abcde.pa | grep recurs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acksize: Output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0440" y="914040"/>
            <a:ext cx="45943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 consum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stacksize -m abcde.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16120" y="2046960"/>
            <a:ext cx="43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m = total stack consumption for this function (bytes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18280" y="2364120"/>
            <a:ext cx="361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is = local stack size for this function (by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22960" y="2681640"/>
            <a:ext cx="348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fs = number of references to this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17560" y="2999160"/>
            <a:ext cx="398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lls = number of functions called by this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344600" y="1330920"/>
            <a:ext cx="6906960" cy="307080"/>
            <a:chOff x="1344600" y="1330920"/>
            <a:chExt cx="6906960" cy="307080"/>
          </a:xfrm>
        </p:grpSpPr>
        <p:sp>
          <p:nvSpPr>
            <p:cNvPr id="172" name=""/>
            <p:cNvSpPr/>
            <p:nvPr/>
          </p:nvSpPr>
          <p:spPr>
            <a:xfrm>
              <a:off x="5320080" y="1330920"/>
              <a:ext cx="293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x total stack consumption (by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44600" y="1373040"/>
              <a:ext cx="3959280" cy="115920"/>
            </a:xfrm>
            <a:custGeom>
              <a:avLst/>
              <a:gdLst/>
              <a:ahLst/>
              <a:rect l="l" t="t" r="r" b="b"/>
              <a:pathLst>
                <a:path w="2493" h="73">
                  <a:moveTo>
                    <a:pt x="2493" y="73"/>
                  </a:moveTo>
                  <a:cubicBezTo>
                    <a:pt x="2184" y="36"/>
                    <a:pt x="1875" y="0"/>
                    <a:pt x="1460" y="0"/>
                  </a:cubicBezTo>
                  <a:cubicBezTo>
                    <a:pt x="1045" y="0"/>
                    <a:pt x="522" y="36"/>
                    <a:pt x="0" y="7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407960" y="1728720"/>
            <a:ext cx="5085000" cy="568440"/>
            <a:chOff x="1407960" y="1728720"/>
            <a:chExt cx="5085000" cy="568440"/>
          </a:xfrm>
        </p:grpSpPr>
        <p:sp>
          <p:nvSpPr>
            <p:cNvPr id="175" name=""/>
            <p:cNvSpPr/>
            <p:nvPr/>
          </p:nvSpPr>
          <p:spPr>
            <a:xfrm>
              <a:off x="5324760" y="1729440"/>
              <a:ext cx="11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if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07960" y="1728720"/>
              <a:ext cx="3915000" cy="568440"/>
            </a:xfrm>
            <a:custGeom>
              <a:avLst/>
              <a:gdLst/>
              <a:ahLst/>
              <a:rect l="l" t="t" r="r" b="b"/>
              <a:pathLst>
                <a:path w="2466" h="358">
                  <a:moveTo>
                    <a:pt x="2466" y="111"/>
                  </a:moveTo>
                  <a:cubicBezTo>
                    <a:pt x="1940" y="65"/>
                    <a:pt x="1415" y="20"/>
                    <a:pt x="1046" y="11"/>
                  </a:cubicBezTo>
                  <a:cubicBezTo>
                    <a:pt x="677" y="2"/>
                    <a:pt x="427" y="0"/>
                    <a:pt x="253" y="58"/>
                  </a:cubicBezTo>
                  <a:cubicBezTo>
                    <a:pt x="79" y="116"/>
                    <a:pt x="42" y="308"/>
                    <a:pt x="0" y="35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390920" y="1990800"/>
            <a:ext cx="2211840" cy="1632960"/>
            <a:chOff x="4390920" y="1990800"/>
            <a:chExt cx="2211840" cy="1632960"/>
          </a:xfrm>
        </p:grpSpPr>
        <p:sp>
          <p:nvSpPr>
            <p:cNvPr id="178" name=""/>
            <p:cNvSpPr/>
            <p:nvPr/>
          </p:nvSpPr>
          <p:spPr>
            <a:xfrm>
              <a:off x="5326200" y="3316680"/>
              <a:ext cx="127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90920" y="1990800"/>
              <a:ext cx="932040" cy="1492200"/>
            </a:xfrm>
            <a:custGeom>
              <a:avLst/>
              <a:gdLst/>
              <a:ahLst/>
              <a:rect l="l" t="t" r="r" b="b"/>
              <a:pathLst>
                <a:path w="587" h="940">
                  <a:moveTo>
                    <a:pt x="587" y="939"/>
                  </a:moveTo>
                  <a:cubicBezTo>
                    <a:pt x="501" y="939"/>
                    <a:pt x="415" y="940"/>
                    <a:pt x="387" y="853"/>
                  </a:cubicBezTo>
                  <a:cubicBezTo>
                    <a:pt x="359" y="766"/>
                    <a:pt x="439" y="551"/>
                    <a:pt x="421" y="419"/>
                  </a:cubicBezTo>
                  <a:cubicBezTo>
                    <a:pt x="403" y="287"/>
                    <a:pt x="343" y="118"/>
                    <a:pt x="281" y="59"/>
                  </a:cubicBezTo>
                  <a:cubicBezTo>
                    <a:pt x="219" y="0"/>
                    <a:pt x="94" y="48"/>
                    <a:pt x="47" y="66"/>
                  </a:cubicBezTo>
                  <a:cubicBezTo>
                    <a:pt x="0" y="84"/>
                    <a:pt x="0" y="125"/>
                    <a:pt x="1" y="16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5319720" y="4324320"/>
            <a:ext cx="311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de-DE" sz="1400" spc="-1" strike="noStrike">
                <a:solidFill>
                  <a:srgbClr val="000000"/>
                </a:solidFill>
                <a:latin typeface="Times New Roman"/>
              </a:rPr>
              <a:t>sum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 function name </a:t>
            </a:r>
            <a:r>
              <a:rPr b="1" i="1" lang="de-DE" sz="14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 class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de-DE" sz="1400" spc="-1" strike="noStrike">
                <a:solidFill>
                  <a:srgbClr val="000000"/>
                </a:solidFill>
                <a:latin typeface="Times New Roman"/>
              </a:rPr>
              <a:t>called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440" y="1596960"/>
            <a:ext cx="459432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stacksize -a abcde.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m  this  refs 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rt         100    44     0      2  a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rt         104     8     0      1  b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6    48     2      2  c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96    40     1      2  d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      8     8     2      0  e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ernal        0     0     2      0  f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440" y="3736800"/>
            <a:ext cx="4594320" cy="25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stacksize -g abcde.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l grap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  100 aaa   44 =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   56 ccc   48 =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    8 eee    8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  104 bbb    8 =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   96 ddd   40 =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   56 ccc   48 ==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 (see ab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    8 eee    8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stacksize: Problems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Recu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tacksize calculates 1 loop (without clos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Variable number of argu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tack consumption for calls with a variable number of arguments (printf ...) cannot be calcul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add an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interrupt service routines save registers on the stack of the current 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add an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unction poin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calls via pointer are not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called functions are normally classified as ‘start nodes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you may insert calls in the .p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Doub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defined n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ame function name in different source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stacksize uses the most stack consuming function (+ issues a warn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33400" y="75960"/>
            <a:ext cx="7677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stacksize  Internals</a:t>
            </a:r>
            <a:endParaRPr b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47320" y="914040"/>
            <a:ext cx="9410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binary tr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bt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graph n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ste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e command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 .p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ize binary tree and call grap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my function ‘m$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.p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lize global call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call in global call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e double entries in call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PROC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externa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only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cation, stack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ursive through binary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ursive through call gra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global 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$ ‘call’ all start 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09:24:25Z</dcterms:created>
  <dc:creator>mbj</dc:creator>
  <dc:description/>
  <dc:language>en-US</dc:language>
  <cp:lastModifiedBy>Frank Reglin</cp:lastModifiedBy>
  <cp:lastPrinted>2001-12-20T12:49:30Z</cp:lastPrinted>
  <dcterms:modified xsi:type="dcterms:W3CDTF">2003-02-20T09:39:39Z</dcterms:modified>
  <cp:revision>166</cp:revision>
  <dc:subject>WCS products</dc:subject>
  <dc:title>No Slide Title</dc:title>
</cp:coreProperties>
</file>